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zapbig0g.wav" ContentType="audio/x-wav"/>
  <Override PartName="/ppt/media/caralarmoff.wav" ContentType="audio/x-wav"/>
  <Override PartName="/ppt/media/lzipup01.wav" ContentType="audio/x-wav"/>
  <Override PartName="/ppt/media/jetflyby2.wav" ContentType="audio/x-wav"/>
  <Override PartName="/ppt/media/bserie0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114-B866-4B16-BE63-52E46E9B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023-8214-47DE-B192-601933C9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2B6-2E83-4C68-B781-E324A3B8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4BF-59D8-4370-AD64-A02F700F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0CA-0D4B-44F4-97A1-DD94256F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393-C3F9-4655-BF8C-EAC4A99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136-7CDA-4173-A15F-7CF63E79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10D-A29B-4B75-8E93-C9D05236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0CE-B1A0-4B13-9F2C-6F865740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AC1-C92D-43D9-80B7-24E41746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4B2-C8AB-4E0E-A999-2A1A519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815-2858-46C0-B47D-A03B042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025-911B-4169-A432-69E1594D6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ralarmoff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ralarmoff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zapbig0g.wav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aralarmoff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caralarmoff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audio" Target="../media/bserie06.wav"/><Relationship Id="rId20" Type="http://schemas.openxmlformats.org/officeDocument/2006/relationships/audio" Target="../media/zapbig0g.wav"/><Relationship Id="rId21" Type="http://schemas.openxmlformats.org/officeDocument/2006/relationships/audio" Target="../media/bserie06.wav"/><Relationship Id="rId22" Type="http://schemas.openxmlformats.org/officeDocument/2006/relationships/audio" Target="../media/zapbig0g.wav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68440" y="4245120"/>
                <a:ext cx="1371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746600" y="4226040"/>
                <a:ext cx="4302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387520" y="4245120"/>
                <a:ext cx="13334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70560" y="4206960"/>
                <a:ext cx="782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631960" y="4245120"/>
                <a:ext cx="1019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51480" y="4226040"/>
                <a:ext cx="8222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328840" y="4245120"/>
                <a:ext cx="1451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0560" y="4206960"/>
                <a:ext cx="7826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660760" y="4216320"/>
                <a:ext cx="10191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648320" y="4226040"/>
                <a:ext cx="6271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Numbers such as  . . . -3, -2, -1, 0, 1, 2, 3 . . 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3086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You can use a number line to compare integ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386080" y="4216320"/>
                <a:ext cx="14508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887640" y="4195800"/>
            <a:ext cx="652680" cy="6523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765680" y="4206960"/>
                <a:ext cx="392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90880" y="4216320"/>
                <a:ext cx="608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Oppo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4684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Two numbers the same distance from 0 but are on the opposite sides of 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7688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Find the opposite of each integ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19240" y="4543560"/>
                <a:ext cx="16858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311640" y="4540320"/>
                <a:ext cx="49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094360" y="4522680"/>
                <a:ext cx="11509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643800" y="4497480"/>
                <a:ext cx="898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20680" y="5502240"/>
                <a:ext cx="16844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11640" y="5477040"/>
                <a:ext cx="49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951440" y="5481720"/>
                <a:ext cx="14382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88080" y="5456160"/>
                <a:ext cx="89856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bsolut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68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The distance from 0 on the number li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240" y="3075120"/>
            <a:ext cx="740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23760" y="2916360"/>
            <a:ext cx="7169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          l          l          l          l          l          l          l          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87800" y="3166920"/>
            <a:ext cx="5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6920" y="315900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4792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96880" y="31575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4880" y="315108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7840" y="31370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78640" y="31431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97640" y="313524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45440" y="314316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7688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Lucida Sans Unicode"/>
                <a:ea typeface="Lucida Sans Unicode"/>
              </a:rPr>
              <a:t>Find the absolute value of each integ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893880" y="4381560"/>
                <a:ext cx="21366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11640" y="4540320"/>
                <a:ext cx="49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849920" y="4361040"/>
                <a:ext cx="164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867360" y="449748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20880" y="5338800"/>
                <a:ext cx="16444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33600" y="5477040"/>
                <a:ext cx="449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780080" y="5348160"/>
                <a:ext cx="20145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956280" y="5478480"/>
                <a:ext cx="3603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77, 11 – 1 #1-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279, 11 – 2 #1-2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10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6-05-03T20:19:47Z</dcterms:modified>
  <cp:revision>102</cp:revision>
  <dc:subject/>
  <dc:title>Slide 1</dc:title>
</cp:coreProperties>
</file>